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200" y="135684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ост ковалентних вез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ефекти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ј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ефекат и реактив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1187280" y="1989000"/>
          <a:ext cx="4176720" cy="12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9000"/>
                    <a:ext cx="4176720" cy="12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4"/>
          <p:cNvGraphicFramePr/>
          <p:nvPr/>
        </p:nvGraphicFramePr>
        <p:xfrm>
          <a:off x="1187280" y="4365720"/>
          <a:ext cx="648036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4365720"/>
                    <a:ext cx="648036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Box 6"/>
          <p:cNvSpPr/>
          <p:nvPr/>
        </p:nvSpPr>
        <p:spPr>
          <a:xfrm>
            <a:off x="3494520" y="3141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ни про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116000" y="386064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фаза реакције: стварање одговарајућег карбокатј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6022800" y="566100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билн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+ I ефе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050920" y="623736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рковниковљево прав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1042920" y="1484280"/>
          <a:ext cx="635004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63500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3"/>
          <p:cNvGraphicFramePr/>
          <p:nvPr/>
        </p:nvGraphicFramePr>
        <p:xfrm>
          <a:off x="900000" y="3500280"/>
          <a:ext cx="7170840" cy="17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00280"/>
                    <a:ext cx="717084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5"/>
          <p:cNvSpPr/>
          <p:nvPr/>
        </p:nvSpPr>
        <p:spPr>
          <a:xfrm>
            <a:off x="833400" y="22050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трифлуорпро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3661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ни про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1131120" y="285264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коб са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рковниковљевим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авилом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971640" y="59500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фаза реакције: стварање одговарајућег карбо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6670800" y="486900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билн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I ефе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2"/>
          <p:cNvGraphicFramePr/>
          <p:nvPr/>
        </p:nvGraphicFramePr>
        <p:xfrm>
          <a:off x="755640" y="1844640"/>
          <a:ext cx="7272360" cy="43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72723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Box 4"/>
          <p:cNvSpPr/>
          <p:nvPr/>
        </p:nvSpPr>
        <p:spPr>
          <a:xfrm>
            <a:off x="2571840" y="1197000"/>
            <a:ext cx="40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карбокат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2648520" y="393372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карбан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ефек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39640" y="184464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 са коњугованим двогубим и трогубим везама (нпр. бензол, 1,3-бутадие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лекули који садрже атоме са усамљеним (слободним) електронским паровима везане за незасићене угљеникове атоме (нпр. винил-хлори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900000" y="3573360"/>
          <a:ext cx="712800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573360"/>
                    <a:ext cx="71280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179280" y="4581360"/>
          <a:ext cx="2160720" cy="20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581360"/>
                    <a:ext cx="216072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2771640" y="4581360"/>
          <a:ext cx="2664000" cy="189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4581360"/>
                    <a:ext cx="266400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Straight Connector 11"/>
          <p:cNvSpPr/>
          <p:nvPr/>
        </p:nvSpPr>
        <p:spPr>
          <a:xfrm>
            <a:off x="2916360" y="479736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4"/>
          <p:cNvSpPr/>
          <p:nvPr/>
        </p:nvSpPr>
        <p:spPr>
          <a:xfrm>
            <a:off x="3851280" y="4797360"/>
            <a:ext cx="57636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4427640" y="508464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20"/>
          <p:cNvSpPr/>
          <p:nvPr/>
        </p:nvSpPr>
        <p:spPr>
          <a:xfrm>
            <a:off x="2987640" y="595008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21"/>
          <p:cNvSpPr/>
          <p:nvPr/>
        </p:nvSpPr>
        <p:spPr>
          <a:xfrm>
            <a:off x="4356000" y="630864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22"/>
          <p:cNvSpPr/>
          <p:nvPr/>
        </p:nvSpPr>
        <p:spPr>
          <a:xfrm>
            <a:off x="3924360" y="5950080"/>
            <a:ext cx="431640" cy="35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ефек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684360" y="2205000"/>
          <a:ext cx="784836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05000"/>
                    <a:ext cx="784836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ounded Rectangle 5"/>
          <p:cNvSpPr/>
          <p:nvPr/>
        </p:nvSpPr>
        <p:spPr>
          <a:xfrm>
            <a:off x="2916360" y="4149720"/>
            <a:ext cx="3024000" cy="2087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3640320" y="4508640"/>
            <a:ext cx="17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и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3564000" y="4292640"/>
          <a:ext cx="1871640" cy="17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292640"/>
                    <a:ext cx="187164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ефекти неких атома и атомских гру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843280" y="2637000"/>
          <a:ext cx="3529080" cy="3752640"/>
        </p:xfrm>
        <a:graphic>
          <a:graphicData uri="http://schemas.openxmlformats.org/drawingml/2006/table">
            <a:tbl>
              <a:tblPr/>
              <a:tblGrid>
                <a:gridCol w="1801800"/>
                <a:gridCol w="1727280"/>
              </a:tblGrid>
              <a:tr h="14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упе са +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ефектом  </a:t>
                      </a:r>
                      <a:br>
                        <a:rPr sz="1800"/>
                      </a:b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 и -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фека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упе са -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ефектом  </a:t>
                      </a:r>
                      <a:br>
                        <a:rPr sz="1800"/>
                      </a:b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 и -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фека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Object 2"/>
          <p:cNvGraphicFramePr/>
          <p:nvPr/>
        </p:nvGraphicFramePr>
        <p:xfrm>
          <a:off x="3419640" y="4221000"/>
          <a:ext cx="720720" cy="20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221000"/>
                    <a:ext cx="7207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3"/>
          <p:cNvGraphicFramePr/>
          <p:nvPr/>
        </p:nvGraphicFramePr>
        <p:xfrm>
          <a:off x="5076720" y="4292640"/>
          <a:ext cx="93528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4292640"/>
                    <a:ext cx="9352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971640" y="2781360"/>
          <a:ext cx="72007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81360"/>
                    <a:ext cx="72007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Box 4"/>
          <p:cNvSpPr/>
          <p:nvPr/>
        </p:nvSpPr>
        <p:spPr>
          <a:xfrm>
            <a:off x="900000" y="1844640"/>
            <a:ext cx="72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RО има позитиван резонанцио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(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932640" y="414972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ле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4"/>
          <p:cNvSpPr/>
          <p:nvPr/>
        </p:nvSpPr>
        <p:spPr>
          <a:xfrm>
            <a:off x="900000" y="1844640"/>
            <a:ext cx="72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RО има негативан резонанцио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(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1992960" y="558972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њуговано карбонилно једињ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900000" y="2708280"/>
          <a:ext cx="692172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08280"/>
                    <a:ext cx="6921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258920" y="1844640"/>
            <a:ext cx="64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нергија резона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разл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их енергија измеђ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не струк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зонанционог хибрида)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стабилнијег резонанцион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ефекат и реактив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2"/>
          <p:cNvGraphicFramePr/>
          <p:nvPr/>
        </p:nvGraphicFramePr>
        <p:xfrm>
          <a:off x="971640" y="1628640"/>
          <a:ext cx="703080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628640"/>
                    <a:ext cx="703080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Box 4"/>
          <p:cNvSpPr/>
          <p:nvPr/>
        </p:nvSpPr>
        <p:spPr>
          <a:xfrm>
            <a:off x="4070160" y="28526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ни про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4295880" y="621180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билн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+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ефе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ounded Rectangle 3"/>
          <p:cNvSpPr/>
          <p:nvPr/>
        </p:nvSpPr>
        <p:spPr>
          <a:xfrm>
            <a:off x="1042920" y="2276640"/>
            <a:ext cx="7129440" cy="295272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ол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4500720" y="2492280"/>
          <a:ext cx="204768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492280"/>
                    <a:ext cx="20476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4500720" y="4076640"/>
          <a:ext cx="2265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076640"/>
                    <a:ext cx="2265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Box 6"/>
          <p:cNvSpPr/>
          <p:nvPr/>
        </p:nvSpPr>
        <p:spPr>
          <a:xfrm>
            <a:off x="4576320" y="3716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089040" y="36450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9"/>
          <p:cNvGraphicFramePr/>
          <p:nvPr/>
        </p:nvGraphicFramePr>
        <p:xfrm>
          <a:off x="5076720" y="3860640"/>
          <a:ext cx="1008000" cy="2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3860640"/>
                    <a:ext cx="100800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4"/>
          <p:cNvSpPr/>
          <p:nvPr/>
        </p:nvSpPr>
        <p:spPr>
          <a:xfrm>
            <a:off x="1042920" y="4581360"/>
            <a:ext cx="68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а СО има негативан резонанцион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захваљујући томе ова реакција је могу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539640" y="1916280"/>
          <a:ext cx="801864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801864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611280" y="184464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ећи број резонантних облика – резонан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брид стабилн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труктуре које имају више ковалентних 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стабилн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ост ковалентних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191628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електронегативности атома на поларност про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е везе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стим ковалентним везама које спајају два иста атома код двоатомских молекула или које спајају две идентичне групе код симетричног молекула, заједничк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ски пар је подједнако дељен, тј. налази се на средини између оба атомска језгра. Такве везе су неполарног т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валентн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 између атома различите електронегативности каже се да су поларизоване или поларне везе, или везе с парцијалним јонским каракте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лектронегативно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ња атома да привлаче елeктро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једничког електронског п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електронегативност неких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—F поларна     4 - 2,1 = 1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—Н поларна    3,5 - 2,1 = 1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—О поларна    3,5 - 2,5 = 1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—H неполарна  2,5 - 2,1 = 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3860640"/>
          <a:ext cx="7345440" cy="1152720"/>
        </p:xfrm>
        <a:graphic>
          <a:graphicData uri="http://schemas.openxmlformats.org/drawingml/2006/table">
            <a:tbl>
              <a:tblPr/>
              <a:tblGrid>
                <a:gridCol w="612720"/>
                <a:gridCol w="611280"/>
                <a:gridCol w="612720"/>
                <a:gridCol w="611280"/>
                <a:gridCol w="612720"/>
                <a:gridCol w="611280"/>
                <a:gridCol w="612720"/>
                <a:gridCol w="610920"/>
                <a:gridCol w="613080"/>
                <a:gridCol w="612720"/>
                <a:gridCol w="611280"/>
                <a:gridCol w="61272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ост ковалентних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91628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Диполни моменат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поларна веза, тј. веза у молекулу између два атома различите електронегативности, има позитиван и негативан центар шарже, то ће она представљати перманентни електрични дипол. Величину дипола, тј. степен раздвајања шарже код дипола, карактерише диполни момена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ом диполном моменту молекула доприносе поред диполних момената веза и атомски диполни моменти, који се обично јављају због присуства усамљених електронски па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 4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 је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 2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2916360" y="4005360"/>
            <a:ext cx="223200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ефек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4"/>
          <p:cNvGraphicFramePr/>
          <p:nvPr/>
        </p:nvGraphicFramePr>
        <p:xfrm>
          <a:off x="1763640" y="2492280"/>
          <a:ext cx="5388120" cy="28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92280"/>
                    <a:ext cx="538812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1" name="Straight Arrow Connector 5"/>
          <p:cNvCxnSpPr/>
          <p:nvPr/>
        </p:nvCxnSpPr>
        <p:spPr>
          <a:xfrm>
            <a:off x="3203640" y="3933360"/>
            <a:ext cx="1008720" cy="108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2" name="Straight Arrow Connector 7"/>
          <p:cNvCxnSpPr/>
          <p:nvPr/>
        </p:nvCxnSpPr>
        <p:spPr>
          <a:xfrm>
            <a:off x="4427640" y="3933360"/>
            <a:ext cx="1008720" cy="108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3" name="Straight Arrow Connector 8"/>
          <p:cNvCxnSpPr/>
          <p:nvPr/>
        </p:nvCxnSpPr>
        <p:spPr>
          <a:xfrm>
            <a:off x="4284360" y="2781360"/>
            <a:ext cx="1080" cy="100872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4" name="Straight Arrow Connector 10"/>
          <p:cNvCxnSpPr/>
          <p:nvPr/>
        </p:nvCxnSpPr>
        <p:spPr>
          <a:xfrm>
            <a:off x="5579640" y="2781360"/>
            <a:ext cx="1080" cy="100872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5" name="Straight Arrow Connector 11"/>
          <p:cNvCxnSpPr/>
          <p:nvPr/>
        </p:nvCxnSpPr>
        <p:spPr>
          <a:xfrm flipV="1">
            <a:off x="4284360" y="4005000"/>
            <a:ext cx="1080" cy="108000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6" name="Straight Arrow Connector 13"/>
          <p:cNvCxnSpPr/>
          <p:nvPr/>
        </p:nvCxnSpPr>
        <p:spPr>
          <a:xfrm flipV="1">
            <a:off x="5579640" y="4005000"/>
            <a:ext cx="1080" cy="108000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67" name="TextBox 17"/>
          <p:cNvSpPr/>
          <p:nvPr/>
        </p:nvSpPr>
        <p:spPr>
          <a:xfrm>
            <a:off x="2082960" y="328464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δ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3547440" y="328464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4940640" y="328464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755640" y="1557360"/>
          <a:ext cx="737388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3738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" name="Straight Arrow Connector 5"/>
          <p:cNvCxnSpPr/>
          <p:nvPr/>
        </p:nvCxnSpPr>
        <p:spPr>
          <a:xfrm>
            <a:off x="1763280" y="3573000"/>
            <a:ext cx="79308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3" name="Straight Arrow Connector 6"/>
          <p:cNvCxnSpPr/>
          <p:nvPr/>
        </p:nvCxnSpPr>
        <p:spPr>
          <a:xfrm flipH="1">
            <a:off x="7164000" y="3573000"/>
            <a:ext cx="72144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4" name="Rectangle 8"/>
          <p:cNvSpPr/>
          <p:nvPr/>
        </p:nvSpPr>
        <p:spPr>
          <a:xfrm>
            <a:off x="3203640" y="3213000"/>
            <a:ext cx="244800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ма индуктивног еф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539640" y="4653000"/>
            <a:ext cx="244800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гативни индуктивни ефекат (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6156360" y="4797360"/>
            <a:ext cx="259236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итивни индуктивни ефекат (+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5"/>
          <p:cNvSpPr/>
          <p:nvPr/>
        </p:nvSpPr>
        <p:spPr>
          <a:xfrm>
            <a:off x="684360" y="1125360"/>
            <a:ext cx="7488000" cy="648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Групе са негативним индуктивним ефек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684360" y="3213000"/>
            <a:ext cx="7488000" cy="64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Групе са позитивним индуктивним ефек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2711160" y="386064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л-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6"/>
          <p:cNvGraphicFramePr/>
          <p:nvPr/>
        </p:nvGraphicFramePr>
        <p:xfrm>
          <a:off x="250920" y="1773360"/>
          <a:ext cx="86644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644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ефекат и базност ам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4"/>
          <p:cNvSpPr/>
          <p:nvPr/>
        </p:nvSpPr>
        <p:spPr>
          <a:xfrm>
            <a:off x="1332000" y="2276640"/>
            <a:ext cx="23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1332000" y="292428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9"/>
          <p:cNvSpPr/>
          <p:nvPr/>
        </p:nvSpPr>
        <p:spPr>
          <a:xfrm>
            <a:off x="1332000" y="4941720"/>
            <a:ext cx="23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5219640" y="2276640"/>
            <a:ext cx="23767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2"/>
          <p:cNvSpPr/>
          <p:nvPr/>
        </p:nvSpPr>
        <p:spPr>
          <a:xfrm>
            <a:off x="5219640" y="2924280"/>
            <a:ext cx="237672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3"/>
          <p:cNvSpPr/>
          <p:nvPr/>
        </p:nvSpPr>
        <p:spPr>
          <a:xfrm>
            <a:off x="5148360" y="4941720"/>
            <a:ext cx="237636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07600" y="2421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                 K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5368320" y="2421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аза                  K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1385280" y="3141720"/>
            <a:ext cx="2295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8 ∙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,3 ∙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1 ∙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8 ∙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5177520" y="3141720"/>
            <a:ext cx="241920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c000"/>
                </a:solidFill>
                <a:latin typeface="Arial"/>
              </a:rPr>
              <a:t>           </a:t>
            </a:r>
            <a:r>
              <a:rPr b="0" lang="en-US" sz="24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5,6 ∙ 10</a:t>
            </a:r>
            <a:r>
              <a:rPr b="0" lang="en-US" sz="14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C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H</a:t>
            </a: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,6 ∙ 10</a:t>
            </a:r>
            <a:r>
              <a:rPr b="0" lang="en-US" sz="14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C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            </a:t>
            </a: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,4 ∙ 10</a:t>
            </a:r>
            <a:r>
              <a:rPr b="0" lang="en-US" sz="16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8"/>
          <p:cNvSpPr/>
          <p:nvPr/>
        </p:nvSpPr>
        <p:spPr>
          <a:xfrm>
            <a:off x="1332000" y="573264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1476360" y="53006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,3 ∙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1"/>
          <p:cNvSpPr/>
          <p:nvPr/>
        </p:nvSpPr>
        <p:spPr>
          <a:xfrm>
            <a:off x="1476360" y="56610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8 ∙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2704680" y="551664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~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3"/>
          <p:cNvSpPr/>
          <p:nvPr/>
        </p:nvSpPr>
        <p:spPr>
          <a:xfrm>
            <a:off x="5219640" y="5732640"/>
            <a:ext cx="129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5364000" y="568332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1,8 ∙ 10</a:t>
            </a:r>
            <a:r>
              <a:rPr b="1" lang="en-US" sz="14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6592320" y="551664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~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2"/>
          <p:cNvSpPr/>
          <p:nvPr/>
        </p:nvSpPr>
        <p:spPr>
          <a:xfrm>
            <a:off x="5415120" y="5300640"/>
            <a:ext cx="79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9,6 ∙ 10</a:t>
            </a:r>
            <a:r>
              <a:rPr b="1" lang="en-US" sz="14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Corporate Edition</cp:lastModifiedBy>
  <dcterms:modified xsi:type="dcterms:W3CDTF">2017-08-29T13:39:49Z</dcterms:modified>
  <cp:revision>282</cp:revision>
  <dc:subject/>
  <dc:title>Slide 1</dc:title>
</cp:coreProperties>
</file>